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862-E937-470B-834B-57989C8B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FA8-4716-46E9-8D5E-0375A66D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7E8-7B9E-47B6-9B4B-C300C9DE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A79-9A64-4257-B902-6FFF9B2B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6A26-D00A-4D59-89EF-5419A0B2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23B4-3233-4E3B-8FAD-349B9071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F47D-2FE3-4B39-83A4-3C9BB1AC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2C1A-C68E-49B8-B15E-22C3D0C5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E27C-3736-421D-BB53-33935D91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A7EB-F770-45E2-BD2E-FF02F41D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00E5-A20F-4ADF-ABC2-BC7F5C19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5BE-1C0C-4D9E-AC09-172BC900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33F3-6834-4C27-9DB4-8C40F290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532F-3D6C-494C-BCD0-C85B488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8805-17A7-4F21-838C-5F5CC320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D110-0D03-4947-B018-C4E4334A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43AA-991C-4601-9090-C541556D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977-67EE-4A38-A818-CC134E29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04F-716E-440A-BACE-B4F5FC56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E0A-A709-48A2-9C59-172C43DC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0ED-4B7C-4389-B8C2-9329077C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194-F898-4BC0-9F45-DB1C2685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44E-ADCB-4117-BB89-82087D3B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497-CD42-4682-89CF-D2220CF2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9A2D-47ED-4C4E-BE67-CC6803648F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29B4-11C4-446C-8AE9-4A312815A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876-B873-485E-906A-228C137D8E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5E67-FFD9-4624-A076-24E32B934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urs for Turneringsleder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Kretsautorisasj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øtte til gjennomgang av lov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2970-0AF5-4BA2-BD11-2243A75CCF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7B805A4-8AB8-4D7D-A4D3-844AF9E74BB0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raffeutmålingen § 12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12 A 1-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gen straff i lov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mulig å spille map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onet feil str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12 B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kke lov til å avvike fra de straffene som er fastsatt i lovene f.eks for 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2 C 1-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els pluss 60%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els minus &gt;&gt;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ke feilende får normal sannsynlig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ilende side får verste sannsynlige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Det er lov også for TL å ”veie” en sc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765-09F5-41B6-878B-776A8A1B33A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29DAD-6974-46B6-B0A2-5673AB38CA29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rettmessig informasjon § 16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 informasjon som ikke kommer fra normalt spill eller meld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k av urettmessig informasjon fra makker er forbu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k av informasjon som påtvinges fra andre kilder er forbudt, men erstatning 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sjon fra meldinger og spill som er trukket tilbake er ulovlig for en feilend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år det finnes mye ulovlig informasjon så er det ofte umulig å fortsette et normalt spill. For eksempel når begge par har gjort feil som har ført til tilbaketrukne melding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4D7-43B7-489D-9897-817CC5A9883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0D0F6-D059-465B-B4EC-FC64A7F134BB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1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år meldingsforløpet slut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ørg for at meldekortene ligger på bordet til meldingsforløpet er slutt etter 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20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år er det tillatt å be om forkla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21Om melding basert på ukorrekt opplys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§21B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ør åpningsutspillet er snudd kan den av motstanderne som passet sist endre sin melding når spillefører eller blindemann retter en ufullstendig eller feil forkla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ten som svar på spørsmål eller etter plikten i §75D2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00E-0077-49F3-9838-248430ACC311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3A917-0EEB-419A-89A1-C227B1154DA9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2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23 skade ved tvungen pas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e er IKKE et sikkerhetsnet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 ! bare når ”den feilende spiller kunne vite at den tvungne pass sannsynligvis ville ska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24 om fremvist ko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vens bokstav betyr her at spillere som ser på hverandres kort før åpningsutspillet er snud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å legge alle kort synlig på bord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å passe resten av meldingsforløpet dersom en feil forklaring fører til flere melding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A62-D962-444D-888A-ADEFB37BAB1E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117DD-C6AA-439B-8D22-52C988504548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3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25 B 2 er vanskeli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eringen ”DEN SIST AVGITTE MELDING BLIR IKKE AKSEPTERT” betyr at spilleren allerede har byttet ut meldingen sin når denne paragrafen skal  bru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ke tilby spillerne å bruke 25B2b2 når du ikke m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§26 er en viktig støtte i svært mange andre paragrafe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§26A: Bestemt farge eller farger f.eks spar eller kløver og ruter gir rom for krav og forbud i disse far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§26B: Andre meldinger f.eks pass, dobler, NT, viser spar og minor o.s.v gir rom for å nekte en hvilken som helst farge i utsp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150-F35A-4006-89A5-EF5DB198715A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5F6F5-34C2-4892-8841-3191150A41BE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4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27 Utilstrekkelig bu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 må ALLTID få sjansen til å godta mel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e mellom naturlige og konvensjonelle b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ke tillatt å rette til Dobling eller Redob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§28 Om rekkefølgen av meld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lding av spiller i tur annulerer melding utenfor  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Dette er greit dersom det har skjedd ved bordet, men det er ikke et tilbud etter at TL har kommet til bord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275-A703-4329-8B94-6DDEA7E3ADE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E487C-EBA7-45AE-B9F6-CEC5ADE786C5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5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§ 29 A gir VM rett til å godkjenne alle (lovlige) meldinger utenfor tur. Dersom han godkjenner en melding som er ulovlig etter §35-39 så annuleres den ulovlige meldingen og alle etterfølgende meldinger uten straff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§ 29 C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rk at konvensjonelle meldinger utenfor tur som viser en bestemt farge eller bestemte farger så gjelder reglene i § 30-32 disse fargene og ikke benevnel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.eks spar og en minor er ikke bestemte far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99D-4190-4BB3-9703-38CAAF5775F2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96F29-B048-4DF1-B13D-0C94984F7C5E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6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30-32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knisk kompliserte paragrafer som skal dekke nesten alle tenkelige varianter  og med nøyaktig beskrivelse av hva som skjer etterpå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usk referansene til §26 og §23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§ 16 C nevnes sjelden, men all informasjon fra tilbaketrukne meldinger er ALLTID urettmessig informasjon for den feilende sid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 33 (og§58) viser at når ting skjer samtidig så skjer de etter hverandre i slik at spiller i tur handler førs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34 fastslår at melding utenfor tur ikke fratar noen spiller  muligheten til å meld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69F-D2F8-48E0-BD7F-18469EF3CC9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2C463-2E50-44F1-9879-5ABEFAD89353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7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40 er en sentral paragra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ten til å melde og spille som en 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julte makkeravtaler er forbu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emmelser om konvensj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t er mye tilleggslitteratur om dette med psykiske bud tillate systemer og konvensjoner m.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 alltid oppmerksom i grenselandet mellom skjulte makkeravtaler og psykiske b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 svært skeptisk til psykiske bud som reellt sett er bruk av forbudte konvensj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9BF-5468-42E0-8481-18D25012DD58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4386E-A811-4E4F-AD1B-A7CB3E484D03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ystemkor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BF har påbudt bruken av system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enkelte arrangør kan komme med påbud som også kan si at et bestemt system gjelder, eller at manglende systemkort fører til at et forhåndsutfylt kort deles 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vik fra system når det ikke finnes systemkort eller annen dokumentasj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 skal tendere til å dømme feil forklaring og eventuelt ulovlig konvensjon når systemet ikke kan dokume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EEB-7A42-455A-BD59-487D66E78604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9FA3F-0870-40DB-BC5F-7D2902A596E4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ål for kurse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Kretsautorisasjon som turneringsled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ne arrangere lokale turner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vkunnskap og dømm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gnska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ruke manuelle metod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ruke dataverktøy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ganisering av 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sjon av resulta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53C-7B76-4580-8D81-A8CA635A7A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22DBB-D140-44CF-9134-498C7B946831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kjulte makkeravtal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Når systemet er slik at en del hender er ”umulige” å melde, blir nødløsningen lett en skjult makkeravta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Åpning 1 NT med singelton, 1 Hp for lite eller 1 HP for m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var 1 </a:t>
            </a:r>
            <a:r>
              <a:rPr b="0" lang="nb-NO" sz="20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med 3 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Melding 2/3 </a:t>
            </a:r>
            <a:r>
              <a:rPr b="0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som krav eller holdvisende uten lengde os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år du tar en sjan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ker 1 kl HM:D du har 3343 og  0 hp og melder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k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vtalen: Pass viser minst 5 kløv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kjult avtale:Pass viser en fryktelig dårlig hånd jeg håper at VM løfter oss av kroken  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A28-CF86-4EDC-A0F9-7BDA0E68E78B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4FBF3-110B-4EEE-8D32-DC86D2F6CFFC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ngen makkeravtaler ?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rsom det ikke er noen makkeravtale eller makker har glemt avtalen så skal melderens makker svare det. Og bare det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ar på spørsmål om hva han tror det er hjelper ikke motstanderne og gir urettmessig informasjon til meld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dingen som er avgitt vil senere enten være makkeravtalen, eller det må avtales noe annet for denne situasj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år melderens makker har glemt avtalen, kan TL ta ham bort fra bordet og la melderen forkla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vtalen er glemt er også urettmessig informasj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lende systemkort vil ofte bety at meldingen defineres som syste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ke vær streng med slikt i sommerturneringer eller singel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3AA-2916-4EDE-96BE-56A5A8465D1D}" type="slidenum">
              <a:t>2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AD5FF-B95C-4F4D-AB0F-CF5C8E0067AB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pillet: Fremgangsmåt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41 krever fordekt åpningsutspill NB husk §17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dingsforløpet er gjentatt ved at meldekortene ligger på bor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 kan spørre om betydningen av meld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pillefører og blindemann skal korrigere manglende alerter og feil forklaringer fra makkers side (§75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otspillerne skal ikke røpe at makker har unnlatt å alertere eller har forklart feil (75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53B-56E3-48AC-B93E-0AFF38836390}" type="slidenum">
              <a:t>2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EE9CB-A19E-45E9-8A4E-C6909C99E23B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lindemann sine rett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t er viktig å vite om blindemann har sine rettigheter i behol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lindemann kan idømmes straff etter §90 for brudd på §41 A og 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 45 C Tvungent spill av kort fra en hån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e reglene skal håndheves ganske stre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ær oppmerksom når du skal bruke §45 D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ll av vanvare kan være nesten hva som he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5BC-09AD-4FCD-A1CF-5EA8266ED68E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D9AAC-31E8-4D91-9DA2-BB3FFB4DC15B}" type="datetime1">
              <a:rPr lang="en-US"/>
              <a:t>07/31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raffekor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re motspillere kan få straffe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t som er vist under meldingsforløpet kan bli straffekort dersom spillefører vil 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t som er vist under spillet er alltid straffekort (unntatt når TL straks bruker §72B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ter hva som er et lite straffekort og et stort straffe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år en spiller har flere straffekort som lovlig kan spilles, kan spillefører velge hvilket straffekort som skal sp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F13-A4C5-4D60-8192-68255893E7D1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A47FF-4930-4592-97D5-EC0548513D9D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01E-48C3-4674-84E4-712DFB6D9A9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9C2A9-5D7E-4AB4-9FED-1D36DEA3D104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dskapene i ledelse av Bridge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edtatte regl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sjonale lover 1997 utg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sitt reg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tillatte meldesyst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regler for bruk av alert og sto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tøtteregler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inutes” fra W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ommentary on 1987 Laws (Endicott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nbefalinger fra W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urneringsoppsett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ävlingsled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Dataregnskap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79A-D744-4226-A98E-CE4EDFBF964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64B79-4D1F-492F-B7D4-0156D24F7948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Lovbok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finisjon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beredels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beredelser og gjennomfø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regelmessighe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ldingen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pill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remgangsmå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raff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ikk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Krav og avstå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Etiske regl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D07-6D04-484B-881E-7A5A7B3E1628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463A9-DE4C-4D83-B529-C7EEAFADD378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Lovboka II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gnskap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rrangering av 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urneringsleder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varsområ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gjør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rigering av uregelmessig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ffebestemm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ppel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Utfyllende bestemmels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tedfortredere i par eller singel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tedfortredere i lag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ttigheter med hensyn til plassering i lag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ppendix om bruk av skjer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44E-BCE9-4AB8-B866-0043FC75ECB1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45CC8-DA38-42DA-BFD3-2377603AF634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Definisjon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 gjennom plansjene fra lovboka og vær nøye med definisjon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k f.eks forskjellen mell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U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LD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g merke til definisjon av konvensjonell me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DC5-AA01-4F5C-89BD-10C723B891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9B7CF-EE9B-4A3A-858F-4D299376DAD2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apitel II og III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Forberedelser og gjennomfør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ildeling av p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Giv og omg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Kontroll av mapper og k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vvikling av r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37B-2183-4DD1-A8D1-9674D25DB3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8CAA9-F2CC-477D-97E7-04699DB2A076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regelmess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vordan og når uregelmessigheter påtal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tten til å tildele straff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tten til å anvende skjøn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korrekt antall kor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pill av feil mapp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rettmessig informasj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BA0-02E6-46A1-A528-52A5DE1E7F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6A8EA-96AC-4738-8548-9AFA1C6D172C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tten til å straffe §11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L er alene om å kunne tildele straf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L skal forklare alle valgmulighe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år en spiller skal velg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n konsultasjon mellom makkere ved valg mellom alternat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tten til straff kan tap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d å spille eller me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år en tilskuer ”som er din venn” sier i fra om uregelmessigheten    (se også § 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416-6913-4A33-B2DB-F9CADD81AC49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CA800-D603-4115-A3A2-247820E797FF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7:30:15Z</dcterms:created>
  <dc:creator>Per Nordland</dc:creator>
  <dc:description/>
  <dc:language>en-US</dc:language>
  <cp:lastModifiedBy>Per Nordland</cp:lastModifiedBy>
  <dcterms:modified xsi:type="dcterms:W3CDTF">2002-04-17T23:10:54Z</dcterms:modified>
  <cp:revision>5</cp:revision>
  <dc:subject/>
  <dc:title>Kurs for Turneringsledere</dc:title>
</cp:coreProperties>
</file>